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1B1-B0A8-4F77-9722-02AEF8F9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2E6-B6B1-42EB-8B4B-FC3DF21D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2F5-BB7E-4F68-B2E8-72BBC247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002-AFA4-4787-903A-86001E3C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3104-D7AC-4673-968F-F93D1134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6CC6-CBF7-46C5-87F6-855C0A09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A9A0-E40E-4E72-AD2C-7B606E0F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7A2F-3C8B-4048-8E23-D03DDA6C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57C3-F39C-4A75-8DDE-8AC3EAE7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8B02-CC73-4ACD-897D-54A73C31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B76-52C8-4D51-9CD7-E028123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A8C-4427-4D2D-AD2B-87ED8BF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5F4E-769D-4819-9E09-DE25672F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FA1A-4FCD-4443-AFC5-C05CAFF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D02E-D1ED-4894-8FCA-E2E9BF84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EB6C-EE43-4C9E-91A1-090E8B65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0547-42EE-4C92-9712-BB2C64CE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1BA-3181-45D3-83C4-F43D27CD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E4E-CF19-43FA-89D6-ED6D4CA3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86C-6FD7-44B1-B9F3-C3F0B58F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AFC-63B8-4060-A857-667E30E3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338-5B33-488A-B8B7-087CB18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012-EF33-444E-B8FF-0159C7A1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63F-49A3-43B1-B201-9C5AD391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14ADD9-84A8-4E84-A873-6FB3F0983D8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96672B-87F5-43B0-B701-4B6325FA493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preendedorism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Noções Básicas de Matemática Finance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449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Actualização dum fluxo de quantias datadas futur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2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o analisar um projecto, caracterizado por um fluxo previsional de quantias distribuídas por um certo número de anos futuros, o que é necessário calcular é o valor actual do conjunto dessas quantia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ando as quantias futuras a actualizar são diferentes umas das outras tem de determinar-se o valor actual de cada uma dessas quantias separadamen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preendedorism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Critérios e medidas de rendibilidade empresarial de um proje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usto de oportunid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valiação do interesse efectivo de um projecto exige que se actualizem os valores aplicados e recuperados no projecto por causa da inflação, do risco do investimento e da recompensa mínima esperada pela aplicação de capitai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inflação, o risco e a recompensa são agrupados numa taxa i que representa o custo de oportunidade do capit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s e perspectivas de análi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spectiva da rendibilidade total (do projecto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eutraliza-se, na medida do possível, o impacto da estrutura de financiamento usadas; os resultados da análise não dependem do tipo de financiamento adoptado, apenas da capacidade económica intrínseca do projec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ão considerar como custos de exploração os encargos financeiros do financiamen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cash-flow é assim o fluxo financeiro disponível para remunerar todos os financiadores, sejam eles accionistas ou investidores extern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s e perspectivas de análi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spectiva da rendibilidade para o investid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fere-se à parte do fluxo financeiro gerado pelo projecto que é pertença dos accionista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sidera como custos de exploração os encargos financeiros (juros) e os reembolsos de empréstim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mite verificar qual é a taxa de rendibilidade que os accionistas podem esperar dos montantes mobilizados por si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erença entre o somatório dos benefícios traduzidos em valores de entradas de caixa e o somatório dos custos de investimento e de exploração traduzido em valores de saídas de caix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ldo dos fluxos de entrada e saída de caixa decorrentes da realização do projec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amortizações não são consideradas como custos ou fluxo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o cash-f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ão correspondem a uma efectiva saída de numerár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averia uma duplicação de custos, uma vez que, no cash-flow, são considerados o investimento inicial do projecto e os investimentos de substitui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sh-flow (perspectiva do projecto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juros ou encargos financeiros não são consideradas como custos ou fluxo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do cash-flow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fluenciariam os resultados do projecto face à estrutura de financiamento adoptada pelo investidor; o projecto não deve ser penalizado pela forma como é financiad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istiria duplicação na contabilização dos custos do projecto, uma vez que o factor juro já é tomado automaticamente em conta quando se considera a actualização à taxa i, independentemente de se saber se o capital é do promotor ou do banc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impostos sobre os lucros são considerados como custos ou fluxo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o cash-f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ideram-se no cash-flow como variável autónoma dos outros cust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es impostos só podem ser calculados após o tratamento contabilístico de todos os proveitos e custos da conta de exploração; os impostos incidem sobre o resultado líquido de exercíc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sh-flow (perspectiva do projecto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sh-flow de exploração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ado líqu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 Amortiz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 Provisõ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 Encargos financeiros do financi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5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uro e capitaliz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tualiz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ritérios de avaliação para investimentos com período de maturação long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Líquido Actualizad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ácio Benefícios-Cust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xa Interna de Rendibilida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íodo de Recuperação do Capit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Valor Líquido Actualizado (V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erença entre os valores dos recebimentos e dos pagamentos previsionais depois de actualizados a uma taxa a defini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É a soma das diferenças, ano a ano, entre os recebimentos e os pagamentos de investimento e de exploração gerados por um projecto, actualizadas para um ano ba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Valor Líquido Actualizado (V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∑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/ (1 + 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=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recebimentos do projecto no ano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pagamentos de exploração do projecto no ano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Custos de investimento do projecto no ano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 – taxa de actualiz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 (0 a n) – ano de vida útil do projec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o V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A &gt;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a uma rendibilidade superior à alternativa de referência (o custo de oportunidade do capital considerad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recupera o investimento inicial, remunera o capital investido a uma taxa i igual à taxa de actualização e gera um excedente que corresponde ao VLA; o projecto pode ser aprov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o V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A 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à taxa i (o custo de oportunidade do capital considerado) que representa o limiar mínimo para o investidor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recupera o investimento inicial e remunera o capital investido a uma taxa i igual à taxa de actualização; é indiferente realizar, ou não, o projec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o V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A &lt;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não ger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benefícios líquidos que permitem recuperar os recursos aplicados e/ou remunerar os capitais à taxa i (o custo de oportunidade do capital considerado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até pode recuperar o investimento inicial mas não remunera o capital investido da mesmo modo que a alternativa de referência; o projecto deve ser rejeit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Rácio Benefício-Custos (RB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ociente entre os valores dos recebimentos e dos pagamentos depois de actualizad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    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[∑ 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 / [∑ (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=0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  t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             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[∑ (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 / [∑ 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=0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            t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ociente entre os benefícios líquidos (benefícios menos custos de exploração e investimento) actualizados positivos e negativ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ácio Benefício-Custos (RB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BC &gt;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a uma rendibilidade superior à alternativa de referência (o custo de oportunidade do capital considerad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recupera o investimento inicial, remunera o capital investido a uma taxa i igual à taxa de actualização e gera um excedente quando o RBC é maior que 1; o projecto pode ser aprov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ácio Benefício-Custos (RB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BC &lt;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não gera os benefícios líquidos que permitem recuperar os recursos aplicados e/ou remunerar os capitais à taxa i (o custo de oportunidade do capital considerado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até pode recuperar o investimento inicial mas não remunera o capital investido da mesmo modo que a alternativa de referência; o projecto deve ser rejeit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Taxa Interna de Rendibilidade (TI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de a taxa de juro anual efectivamente proporcionada durante o período de vida útil pelo conjunto dos capitais nele aplicados, ou o rendimento anual produzido durante o período de vida útil do investimento depois de recuperados os respectivos custos (de investimento e de exploração) por unidade de capital nele aplicad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5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5640" indent="-571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valor temporal do dinhei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um projecto os custos e os benefícios vão ocorrendo ao longo de vários an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tempo influencia o valor do dinheiro por via da inflação, do risco e da compensação esperada pelo invest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Taxa Interna de Rendibilidade (TI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xa de actualização para a qual o VLA de um projecto se anu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∑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/ (1 + TIR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t=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Recebimentos do projecto no ano 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Pagamentos de exploração do projecto no ano 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Pagamentos de investimento do projecto no ano 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 (0 a n) – ano de vida útil do proj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a T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R &gt; 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a uma taxa de rendibilidade superior à alternativa de referência (o custo de oportunidade do capital considerad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recupera o investimento inicial, remunera o capital investido a uma taxa i igual à taxa de actualização e gera um excedente que corresponde à diferença entre a TIR e 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a T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R = 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a uma taxa igual a i (o custo de oportunidade do capital considerado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recupera o investimento inicial e remunera o capital investido a uma taxa igual à taxa de actualização i; é indiferente realizar, ou não, o projec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a T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R &lt; 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não ger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benefícios líquidos que permitem recuperar os recursos aplicados e/ou remunerar os capitais à taxa i (o custo de oportunidade do capital considerado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até pode recuperar o investimento inicial mas não remunera o capital investido da mesmo modo que a alternativa de referência i; o projecto deve ser rejeit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eríodo (tempo) de recuperação do investimento (P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úmero de anos do período de vida útil dum investimento necessários para que o fluxo de recebimentos líquidos positivos iguale o montante total investido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 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∑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 ∑ (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=0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=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m que tp é o período de recuperaçã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5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5640" indent="-571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valor temporal do dinhei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necessário uniformizar essas quantias financeiras, reportando-as a um mesmo momento de modo a permitir a sua compar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2440" indent="-449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capitalização duma aplicação (juros composto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2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futuro de uma quantia datada actu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valor no ano t (valor futu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valor inicial (ano b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 – taxa de capitalização anual (constan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 –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3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capitalização duma aplicaçã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de 20000 euros (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o fim de 5 anos (t) a uma taxa que compensa o risco e a remuneração do capital de 10%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+ (20000x0,10) = 2200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 = 2200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2000 +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(22000x0,10) = 24200 eur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420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3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capitalização duma aplicaçã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4200 + (24200x0,10) = 2662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662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6620 + (26620x0,10) = 29282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9282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9282 + (29282x0,10) = 32210,2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32210,2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3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actualização duma aplicaçã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actual de quantias datadas futura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valor no ano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valor inicial (ano b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 – taxa de actualiz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 –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3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actualização duma aplicaçã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presente (actual) de um valor futuro de 32210,2 euros (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 ser obtido daqui a 5 anos (t); a taxa que compensa o risco e a remuneração do capital é de 10%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32210,2 /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32210,2 / 1,6105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Operador</cp:lastModifiedBy>
  <dcterms:modified xsi:type="dcterms:W3CDTF">2008-05-26T23:22:46Z</dcterms:modified>
  <cp:revision>6</cp:revision>
  <dc:subject/>
  <dc:title>Introdução às Políticas Agrárias</dc:title>
</cp:coreProperties>
</file>